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D1D-FF68-4964-B32F-68E1A38B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922-DA5A-4765-9476-01F7B60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834-4C80-4FD8-8B0D-6C39431F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DF7-A580-4B41-898A-701E93C9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A74-C8D1-4DB6-BD23-3DFA3807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286-F25C-4AEE-A34A-FADC33D3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22C-9FC1-4C9D-AFD2-28085C46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F35-74BD-46A1-A51E-68EB50A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6CB-0D60-4B04-819F-A2CEB252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D85-E609-48C4-B714-8792179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C3F-4DB3-441C-BE97-9F4F620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144-061F-4240-9F1B-1981142F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063-D366-43E1-AC1C-DBCF92947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eadingrockets.org/transcript.php?ID=10" TargetMode="External"/><Relationship Id="rId2" Type="http://schemas.openxmlformats.org/officeDocument/2006/relationships/hyperlink" Target="http://www.readingrockets.org/transcript.php?ID=10" TargetMode="External"/><Relationship Id="rId3" Type="http://schemas.openxmlformats.org/officeDocument/2006/relationships/hyperlink" Target="http://www.readingrockets.org/transcript.php?ID=10" TargetMode="External"/><Relationship Id="rId4" Type="http://schemas.openxmlformats.org/officeDocument/2006/relationships/hyperlink" Target="http://www.readingrockets.org/transcript.php?ID=10" TargetMode="External"/><Relationship Id="rId5" Type="http://schemas.openxmlformats.org/officeDocument/2006/relationships/hyperlink" Target="http://www.readingrockets.org/transcript.php?ID=10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320"/>
            <a:ext cx="7620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omic Sans MS"/>
              </a:rPr>
              <a:t>Tomie de Pa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Author and Illust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2247840"/>
            <a:ext cx="3403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9370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his is a picture of Tomie’s grandfather, Tom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98760" y="228600"/>
            <a:ext cx="405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516564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Here’s a photo of Tom with Tomie’s mom, Floss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592200"/>
            <a:ext cx="54104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501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his is a picture of Tomie’s favorite art teacher, Mrs. Bower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9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42670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We will learn about all of these people and more when we read Tomie’s memory sto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09800" y="228600"/>
            <a:ext cx="3319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952880"/>
            <a:ext cx="944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also writes books about the characters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Strega Nona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Big Anthony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35702" b="0"/>
          <a:stretch/>
        </p:blipFill>
        <p:spPr>
          <a:xfrm>
            <a:off x="1295280" y="304920"/>
            <a:ext cx="2659320" cy="41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0742" t="23365" r="19615" b="0"/>
          <a:stretch/>
        </p:blipFill>
        <p:spPr>
          <a:xfrm>
            <a:off x="4800600" y="152280"/>
            <a:ext cx="2717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4267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Another great series of books tell about two friends named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Bill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Pete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48846" t="16223" r="0" b="0"/>
          <a:stretch/>
        </p:blipFill>
        <p:spPr>
          <a:xfrm>
            <a:off x="1995480" y="609480"/>
            <a:ext cx="227160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16223" r="19688" b="0"/>
          <a:stretch/>
        </p:blipFill>
        <p:spPr>
          <a:xfrm>
            <a:off x="4267080" y="609480"/>
            <a:ext cx="263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64832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’s newest series is about a family of dogs called the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Barkers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57542" t="0" r="0" b="0"/>
          <a:stretch/>
        </p:blipFill>
        <p:spPr>
          <a:xfrm>
            <a:off x="1981080" y="228600"/>
            <a:ext cx="181944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0" r="44199" b="0"/>
          <a:stretch/>
        </p:blipFill>
        <p:spPr>
          <a:xfrm>
            <a:off x="3809880" y="228600"/>
            <a:ext cx="2816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432756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’s illustrations and stories make his books very special books to re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317520"/>
            <a:ext cx="43434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50532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We will read many of Tomie’s books and learn all about his life this year in library clas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638680"/>
            <a:ext cx="92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Tomie Books Are Great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9850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478476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You can learn more about Tomie at home by going to his web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7488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de Paola is a famous author and illustrator.  He has written over 200 books for childr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4732200"/>
            <a:ext cx="8978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8600"/>
            <a:ext cx="5486400" cy="64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We can also learn more about Tomie by listening to him tell us about himself in these special intervie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readingrocket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.org/transcript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php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?ID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853240" y="1447920"/>
            <a:ext cx="2871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08968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An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author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is a person who writes books as a jo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2600" y="228600"/>
            <a:ext cx="3431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493704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An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illustrator</a:t>
            </a: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 is a person who draws pictures for books as a jo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656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8610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does his work at his home in New Hampsh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4956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46483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knew he wanted to be an author and illustrator when he was only four years 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701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41148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His cousins, who were artists, told him to practice, practice, practice.  Tomie di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7876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946680"/>
            <a:ext cx="876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omie likes to write many different kinds of stories.  One group of his stories tell memories of when he was a little b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6985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51656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This is a photograph of Tomie’s family when he was a little b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97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6:33:39Z</dcterms:created>
  <dc:creator>Faye Humbard</dc:creator>
  <dc:description/>
  <dc:language>en-US</dc:language>
  <cp:lastModifiedBy>Connie Campbell</cp:lastModifiedBy>
  <dcterms:modified xsi:type="dcterms:W3CDTF">2005-05-09T18:23:10Z</dcterms:modified>
  <cp:revision>14</cp:revision>
  <dc:subject/>
  <dc:title>PowerPoint Presentation</dc:title>
</cp:coreProperties>
</file>